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0314-3723-4F51-B988-C47BC223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F0E3-8CCA-4480-AD8B-4EAA3E0A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D864-4A79-421B-A1B4-57641FEB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02A7-7351-4ADE-B444-63E34E6F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63E2-7162-48C4-BB6A-126FDE5D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D2AB-5E2E-48F0-B2F1-141824AF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1C03-B108-4E30-A542-4B69328E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ED81-A834-488B-B075-CC212246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B811-E877-4192-B01F-1624A9C0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03C2-F89B-45E6-B4AC-CE308749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D3E0-BB44-4DFD-B639-F212CDAA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E9EA-A0FA-46C6-A26C-9FAA1F9A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9B91-D0FE-45E2-96BC-045F9502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6DC8-71FA-4EBB-A93E-9E60EC4A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4019-0F37-44A4-8FA7-13A797D9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00E4-331E-47F1-AD01-6EFB624E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2DD9-FF50-44AF-9BF0-E6AD0C0E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BA0-BC8D-4E42-8278-A66E8307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AB2-A47A-4980-8B99-A0837F6E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76B0-43AE-453A-A724-393680D8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7A8C-E409-498D-B571-50740A4C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1887-3BAE-4031-8DAA-D768ED0A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5B5-3A6F-49BC-B992-B678E39C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ADD-DB8C-4AC2-843F-AA7BA2DB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CD8F-2DDE-4718-996E-FF838C0A34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1B32-C3E5-49D5-836E-7CE19D81F1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assignment revisited: interviewing and troubleshoot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earning English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Interviewing Ski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sure the interviewee is comforta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xplain the purpose of the study  and give assurance of confidentia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permission to reco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k a series of ‘easy’ questions to start with (e.g. where are you from/how long have you been in England/at Aston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ive the interviewee time to answer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n’t talk over the interviewe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nk about the kind of questions you ask (open/close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 interested in the interviewee’s answers and respond to the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 interview is a social encounter: demonstrate interest in the interviewe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fferent kinds of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mi-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ructu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mi-structured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has a list of topics or questions to be cove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viewer can ask other questions not on the list or can ‘probe’ to get an expanded response e.g. a follow up question, a period of silence, back chann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terview can go ‘off track’ for some tim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a ‘case study’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7769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elopment of detailed, intensive knowledge about a single ‘case’, or of a small number of related cases’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8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dividual case stud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tailed account of one person.  Tends to focus on antecedents, contextual factors, perceptions and attitudes preceding a known outcome (e.g. drug use; immigrant status).  Used to explore possible causes, determinants, factors, processes, experiences etc., contributing to the outcome.’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(Robson 2002:181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obson C. 2002.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World Research.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3366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dition. Oxford: Blackw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to include in a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Overview: why the cs is taking place; the issues being investiga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cedures: how data were collected including access arrangements, resources available, schedule of meetings and so on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ort: divide into sections, for example –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ucational and cultural backgrou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urpose for studying English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erience of language learning in UK and at hom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nguage learning preferenc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iteracy in different langu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 to English and its place in the worl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ttitudes to his/her bilingualism/multilingualis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commendations (about how learner can develop his/her English with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to skills and system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ference lis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endix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to do 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interview data/learner’s work to illustrate your poi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academic literature to develop your argument/substantiate a clai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clearly but formal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 to reading/discussions from the module, where releva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e learner’s output to inform your recommendations for improvem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consider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member, you need ethics approval BEFORE starting your researc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about how to ensure your learner remains anonymou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lude a copy of your questions in the appendix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Jalal – Case Stud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 information does this case study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ment on the style of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y is the quotation included in ‘present situation’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o are the ‘Points to Consider’ written for, do you thin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8-12-08T17:58:4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